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352-D0DA-4B1B-8145-F92E88A9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47F-194D-43BE-B5D5-2593B61C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A9F70-7B6D-43B5-87EE-FD99F034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CDF47-20FF-4FC0-B1B6-A7378826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6A8F9-67DE-45A3-A6FA-DB7DBCB6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FAFF2-7970-4F23-AF7D-E4E1496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65421-BC07-4ABF-9451-9456CBB1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D20AF-3C42-4A92-A4FF-F10B495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A48DD-48AC-4B37-865D-B520EEAA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B177A-8AC2-4D91-A565-815A4013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CED7A-1DA7-4FC6-B108-5DB95CD6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56724-3A3C-4751-8115-C0987360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E17-7C03-4338-A123-AD81849C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C314A-6AA6-4536-B529-FC54CDDE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CE226-FEFC-431E-9E90-A13578A8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B52D4-EA7E-4BC0-ABEB-6FA72B0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3B8AE-9C4C-4117-8965-02F23319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09985-1E4A-42E2-AF5D-3E4667D2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FF9E2-66B7-444E-BADE-C9312C8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0CCF0-29C8-4292-ACAC-72A243A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E5FD2-FBB0-4115-989F-9E33FF7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04C0C-56CF-4370-BFDA-12B7DF5B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8B335-68C7-49F5-9224-A7506581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BC3-B8CC-4F0C-B7A2-7AC73651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F633A-A545-4F6F-88A1-1EDB263F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241EC-37B0-4641-A413-4BF9E7AB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8FE98-6498-435B-9DC2-A1AD12B1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4E858-BD4E-49BB-9F0D-BF36095B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BCABF-1D5A-4D3D-B0B2-62F01BCB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EE1D9-8530-4095-8D03-E9881F20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F7193-C2B0-47B9-97E2-B7A157A7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4EAF9-274A-410F-A721-E0DD6428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C958F-EA95-4702-BA6A-F3359A6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90CBE-B9C3-4D03-B2DD-4F2DAA9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ABDC-E349-44BE-BF91-1CECFAF5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885AD-ED16-40E6-A637-AB459908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625F9-6609-4ACD-B582-D19442A6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2EB02-3E60-40A5-9C94-EC8BCCBD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43CA8-733F-45B4-B880-484BD62B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5EE0-0539-495F-8A4F-4C988FCE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20187-F9D1-48C8-8F62-820F0AD3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6CBF-9108-41BB-945E-0595E231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B6CCD-CACB-4C6D-A64B-5DDFCDA1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A3DE4-783A-4E85-841D-96E4FCA1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13DB-2323-43D7-96E1-12BB6CA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7673-E17E-48B2-A328-7EAF2437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FA4C7-CBA6-4305-A93E-1B1C9807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B3A26-E8C9-4154-896D-57F1748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427F1-3620-4797-BB37-3FD9FB34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EBF89-4F66-4A94-80DB-72D23E13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007B-B475-417D-90B8-45112B5C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CBEB1-3D70-4BDA-A554-8C076BDE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45DC4-2F9A-477D-A57B-3F25006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432F8-4345-43CE-B8AD-88C9556D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34C7D-5C7F-44E1-A8CF-487AA52E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18EBD-F523-4C34-B4A9-FA692007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9E2A-BEF3-4C79-9493-169D797D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6CF05-A707-42BC-B555-16D1D15C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0E3D6-110C-4B3D-8EC9-A8812B8B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90560-03E8-4A10-9C36-5189188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038FD-C852-4F4B-87F4-2DF9FBC1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BF167-0845-47CA-8AA0-8DD43E8F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F12E9-41FF-4476-BA9C-4C5AEDEB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6C7EB-8286-4012-B6D2-F9AB5472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EE138-F816-4F63-8CE2-53030AF5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1846F-CA49-499D-9759-265A34E2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1F204-6753-4859-B943-19D598D8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B064-742F-46DA-8456-E86E780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5AC4A-F5C6-4386-930D-BF1629A1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55DCB-95E8-498C-939F-89846FF5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B9485-4815-4C1A-A1F2-C2D94483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83F3C-801B-48F9-8B14-E9DEB82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0A9A7-1DC6-42C3-B2FB-AC971C4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F4466-F137-41D4-812A-73C14B72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88ABD-27A9-4697-9BC9-916F1199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305FB-7223-48B1-B2A3-14A4711D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34730-942B-4674-AEC8-C779CD7D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7C4F5-20CA-45E9-8872-13BDEB81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B7EF-6444-4065-B1DA-AE503BB4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556F1-5A76-450F-A594-B00E9193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25357-1A73-4DC3-9F58-1CA1C74A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64328-865A-42AF-A20C-94B96FFC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DD9C1-98C0-46C2-AE5A-4D8D45F1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C4A69-69C3-4266-A858-293B13E8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817E2-98AE-4209-87F8-1DA1AFFB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91DCB-2DE1-4301-88AA-755FC785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83050-7310-485E-8D46-18E6F7A2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202DC-52A5-4BA2-BBE6-2C018AE7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63D81-CB12-4109-BF2C-67C737AE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B997-6BE8-4CE1-89CD-1A4AA6C1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6F6F7-0596-46FB-A12B-09B33F71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1EFB4-B573-415F-9956-FB8BA5A2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17088-3837-4539-A032-251394C6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44477-87E4-42AF-8A03-FBECF851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AF2A1-AB39-4107-9BA0-912AF2FC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A4641-EDA9-4DFD-AB66-CDCEAD7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B2C9E-05D6-4288-B0CB-BE52E9CA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F4DB9-8D30-4010-A9A1-51D50F5A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FA2FC-F7E6-4C0E-861F-3ABD2E2F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FDC76-2195-41AF-A22F-0FCEBDC8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AF40-BBEA-4D01-8F72-B950A50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E8F637-E3B4-4E07-9357-AC16F252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64B35D-C157-4112-8483-17CCB29F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22FB3-EF17-44DD-BD0E-0EE29F3F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77592-5017-4828-BF9F-7C040DF1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831B6-4DC3-416B-A8E0-7E1A5CC2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16E9F-A991-42FA-8B14-408B8E9D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A6FDF-5AE8-4A45-9DFC-D47A5CFC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74943-32C6-40D4-813B-BA2D815B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C023F-FBA4-4263-86E9-AA9D88E3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774D0-CB21-4DAE-A1C2-DFB2435C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7BC-4AB4-4C56-A6D3-E519079F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BEE2-81F2-4C40-9C8A-3156FB0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59827-5507-4CC3-BDD3-705F80F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434DE-0F0A-4BE0-B9A0-F12766AF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209A8-5029-48BA-9FBA-E0905FA2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04AE9-FE20-4A59-9BBD-0525E528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00050-037C-4D14-96CE-1FFE50BA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8C4A7-8FCB-4D84-9422-AE8F4B1C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41880-78C5-4B56-B9A3-703AC9D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D45EF-02B9-467C-A8FE-B5ACE492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D4D71-CFB0-4C1C-BE9A-1061945E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6BE33-32A2-4F83-BB52-20DC255E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EBBC-01CC-4ADA-8462-B4A2479D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6A1CB-559B-42C8-AA32-8351697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E6819-48F0-4981-A103-79BB0F80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32C159-B368-4315-AF65-94B9B36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6DA5A-9DCB-4A87-901A-95085BA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F51F8-8D8E-4603-8485-529377A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C5378-6EA8-4CD1-86C8-152C883A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9E376-F6F8-4E3D-AE8F-F44CAD89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E1F62-A0DF-4FCA-BC89-07F0D461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C89B8-513F-406B-8199-39451B8C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CA793-DF86-4A77-8C83-DD57B7C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9BD2-E1F7-4AA1-BA6A-13DF0A2F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EEC81-28A0-4827-91E7-A7ACC850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353FCB-1620-4134-A906-3AF01315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AFFA2-09DE-431A-B987-86265763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3ED67-C84E-424F-92E1-2CC69B9E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7B0EA-B462-4922-A686-84A8EBAD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EA9A7-F2EB-4BDD-898C-193530A3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AC36F-77F9-47BF-9DC4-60AFC595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6F9B1-52AC-47A6-B420-1D09DEB0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9DCD0-DEF1-49FB-8B96-FCC1ABC2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D9D01-8B28-4934-8069-0D26C5E1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B541-A839-4199-B441-A5EDCEEF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CDF2B-943F-4558-8DFF-22066A96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96682-CE03-47C6-8D79-97DC5726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4405B-B8E7-4C7B-9B10-71614B2F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858A5-9370-49F8-9FD2-295DAC6A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52926-E15A-43AA-B5E1-DF0B96B6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B1C78-CFB0-4B70-9646-2CEFE65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B15DF-B70A-4450-92CB-8A36787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DEF69-8694-4F88-990C-62AA188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1D118-327E-4C6F-BC5E-5703C333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EEE3C-DAF6-4DA7-95A5-C5669999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3FDD-145B-4F76-81C8-F7C26335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23840-B3E6-465D-805A-DE1823BE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DEC80-EB59-4A6C-A12D-9A346524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A0412-8392-45E6-B91F-5D7ABFF0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04630-76B1-4CA1-A365-D0AA6A65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69C15-C5C9-48DF-98BA-12FAC43A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7452B-C70B-4484-97FB-BF86E11C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B0E801-441B-4E78-9884-302156AF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D98C6-8C71-4F8F-A391-2E060747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CFDF0-3930-443E-B835-F9E8A41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C12AF3-4851-474E-8B8A-43D15F69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680B-CC9F-4512-85AC-B2AD58B4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AD5DA-A78D-40BE-88A7-3AED7C29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5B4C90-AB82-48C8-8255-304F27CB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7195E5-60E4-4989-8932-47B878AD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6B52-B3A4-4AEE-BFA3-1EDCBEC1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D89D-43B4-468E-BD85-49F8DE9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31B4-16CE-47C5-854A-0FA1856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172C-21F0-45FC-ADD8-B54BF5AB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B32-B7EF-40BC-A907-15D09ACC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34D5-C817-4759-A52B-02B5D34F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140A-F80E-486C-8615-71571B8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775A-A6C0-4E74-AC47-4400EC9B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AB6E-3ECB-4A9F-8309-0AB98A8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50D8-75F5-4113-97FF-4F746B14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FCB4-90B5-4B52-A26E-42B7CB61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D34BB-4FE1-43A2-8627-B3A8B84A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12E4-F586-46C0-991D-9CA490A9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5828-0D39-4ECF-8DFD-DF7F338D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5180E-FE91-4DF4-B087-13CAA0A4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D2F-B3DA-4BA6-9E27-557ADE0E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4128-17E9-4B18-859C-5E084170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7C62-5ECF-4575-98ED-E56E726E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018E-3723-4CCD-BC85-2716B26B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1AF6C-693C-4975-9A9F-AACA0D5B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5886-9D1C-4E34-9028-4337A04B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3EFD-743D-4BA1-8528-3709C00B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6D89-DDBA-4254-8DE6-A85C01D9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3BA69-81AB-4467-9F18-8DB13636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517E-973A-4FDF-ACD3-F44A9662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6643-6FB1-4387-BE28-930BB751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EE2-AAEB-4A3B-A99E-937B099A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1793-403D-498B-8FA5-189634B3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C384-0EC8-4229-95A7-F6B8DD35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EF1A-6841-4674-AF80-EFFDCE55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6CB3-915C-4F2D-99EC-01A49AE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EBF1-56BA-4BFD-8CE0-EED6D052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E4D3-F26E-4187-8133-1D96FA40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F5F28-5F3A-4501-8396-F294658F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D963B-0B24-406B-908C-33A3C229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51937-EA54-405F-8F76-58D7D5D9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7556-2B2E-4C38-B9AC-9E239EC9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B84-6EFB-4981-A2AD-9AD05497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DA717-A76E-4808-A2CF-9C8AD1F0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9D70B-2A50-4F6A-A583-A844F800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23D9-C74A-4CBB-8261-68E6DC0A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AECB3-1838-478B-8605-43BB65A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42E0-27A0-4EB6-88AD-FCFEC49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11C3-DC6E-4414-B9AB-D1A3E646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4681-1763-4C85-907F-F05BB433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BCA0E-705A-47EA-AF6F-250EC798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AC688-F610-442A-8138-6FB25F1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FA34F-59A4-4EA5-8AEC-5718D32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002-BE5A-40D2-99B1-0FDB6720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D3104-1325-45CC-8928-53871EF1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B171-0ADB-40FD-8951-6C394423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BDE0-8F7E-4A88-B8FB-714BAD37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9ADF-ED4F-428A-9502-BEF98D8E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87208-9C4C-4E14-9008-D0EA113B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4FBFA-B984-426A-A82E-A95D137D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427E8-3E8E-479A-8D4E-2E63BD36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AC763-E4F9-4F3A-9612-7CDECB0B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F44C3-082C-4B4E-9B80-ECAD3AEF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5BC67-54C4-4EB7-9B2D-4320EF3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A63-4035-4413-AE72-13CA4704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3A33-81EE-43CC-9166-80D68EF2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99B4-5E2B-4DE2-9CD6-27D2E3EF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53154-6983-4008-BB30-70E533C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E47D7-EA71-40A3-93B2-26E6E9B1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A26D-0AF8-4011-8FFD-F3A7BD73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8834F-0BC2-4B2F-BCBB-0D2B87F9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6637-D12A-4BA5-BCE8-9623F125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86AE-BCDD-482A-8AC9-30F69CD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AA860-6FB9-48BA-BB2B-40639C9E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D0A6-410F-4ABD-BF23-27BF4631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80F-4214-40D9-B513-D755A72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1DEC3-588A-4616-A89D-96E5152A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71924-A615-47F5-A2F9-8ACCA98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67C47-96B0-4B2D-9679-F1191F7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CC03A-F98D-46EB-AF16-8FD365DA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B2E5C-EC82-447C-A8C2-BFEDBF91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C6D94-CC3C-48A6-8D21-792A4D5F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1B669-EC8F-45C5-A49D-5137ACD5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2A158-EFF1-4B4A-BAF7-F8F333DD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6961D-36AC-44D5-A813-DEF0CFEF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A29A0-B3CF-4BBD-B3BF-36D6DBA4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EA7D-3E3E-4AE7-92C4-BBF417432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E037-74D5-4EF4-8B1C-3198F4344A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F0BB-15C0-46F1-B11F-2BAA82714B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4565-852F-43F5-81D4-9B80C2CAD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B9C-B4EB-4294-9DFE-DEB9DB3FC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CFE2-ED05-4CB3-8D95-83AF4F1CC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271C-F9ED-4129-AC41-6661A88D7D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80BD-D69E-4B79-8DB7-BD478A4D7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3662-74CE-4933-BED0-390C2EDA2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B9A1-3982-4234-AE89-C72461D5A4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94A4-B5AC-4258-BA5F-DC6EBF8D80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5673-CF4F-49CF-9997-2A565869C5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E0C3-0DFA-4934-96E9-3FE0E682B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DCF2-4C8B-4F17-9D8A-5A464676E0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E5EA-8AE0-44C4-9D27-4C72262CE2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A506-4278-40EE-9F33-68EEC096EE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3FB3-9AB1-43EE-A1BE-2F99BA5DF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1294-5B92-4C9D-93E3-D355B8CEEA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EA27-A51B-40D0-89FE-E190556B9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05DD-0EFB-4A17-A72C-91D3F7B45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D788-68A7-47D0-8808-D0D1D43EF8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F69A-27DB-4AB8-86A5-195C00C8E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8A0-6FD6-4890-A07D-6BEC3EDAC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3845-DFBD-49B9-AFD9-6BD061A362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3B6C-B12B-4B37-83F5-339B9BB26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35B-7A3C-4AA0-BF07-D1A1A8C50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9A60-5E2E-4565-A177-3E3B0D7FB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991-F303-408A-B9C5-6CC76391E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3E5-D49C-4D2E-85BB-F40A1D8278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C03F-0F3A-45C7-801E-F3BBEF89F2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0FD6-D51A-4B72-B642-618D6C3B5D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7602-9EE0-4076-9CD2-C817F5EAA6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0FA9-0516-4AE6-87A6-AB6D742AF7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1AE5-F6A0-468F-B08A-F50297131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18E7-0CB6-45F9-BF1F-8B95B3DB9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E49-AAB8-47FF-9215-A989BFC154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F6B1-F2B3-4F75-9DFC-F5D4A0CF2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816D-680E-44C4-8CC6-AE2058106F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BE9A-4C39-4787-89EC-31BE10F31A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A958-F024-477C-850F-99A764A68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405080" y="3181320"/>
            <a:ext cx="63338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28680" y="976320"/>
            <a:ext cx="8486640" cy="55245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5" descr=""/>
          <p:cNvPicPr/>
          <p:nvPr/>
        </p:nvPicPr>
        <p:blipFill>
          <a:blip r:embed="rId2"/>
          <a:stretch/>
        </p:blipFill>
        <p:spPr>
          <a:xfrm>
            <a:off x="6978600" y="2690640"/>
            <a:ext cx="1351080" cy="392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1467000" y="3633840"/>
            <a:ext cx="1352520" cy="392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2995560" y="3633840"/>
            <a:ext cx="1351080" cy="392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4668840" y="3633840"/>
            <a:ext cx="1351080" cy="392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5073480" y="4129200"/>
            <a:ext cx="1019520" cy="392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7392960" y="4129200"/>
            <a:ext cx="1017720" cy="392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4908600" y="4595760"/>
            <a:ext cx="1351080" cy="392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9"/>
          <a:stretch/>
        </p:blipFill>
        <p:spPr>
          <a:xfrm>
            <a:off x="1395360" y="5076720"/>
            <a:ext cx="1351080" cy="392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10"/>
          <a:stretch/>
        </p:blipFill>
        <p:spPr>
          <a:xfrm>
            <a:off x="6645240" y="5076720"/>
            <a:ext cx="1351080" cy="392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11"/>
          <a:stretch/>
        </p:blipFill>
        <p:spPr>
          <a:xfrm>
            <a:off x="4346640" y="5556240"/>
            <a:ext cx="1350720" cy="392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12"/>
          <a:stretch/>
        </p:blipFill>
        <p:spPr>
          <a:xfrm>
            <a:off x="993600" y="6018120"/>
            <a:ext cx="1351080" cy="392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13"/>
          <a:stretch/>
        </p:blipFill>
        <p:spPr>
          <a:xfrm>
            <a:off x="6259680" y="6018120"/>
            <a:ext cx="13507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47760" y="876240"/>
            <a:ext cx="8448480" cy="5838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2"/>
          <a:stretch/>
        </p:blipFill>
        <p:spPr>
          <a:xfrm>
            <a:off x="4181400" y="1368360"/>
            <a:ext cx="1351080" cy="392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3"/>
          <a:stretch/>
        </p:blipFill>
        <p:spPr>
          <a:xfrm>
            <a:off x="2340000" y="1830240"/>
            <a:ext cx="1351080" cy="392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4"/>
          <a:stretch/>
        </p:blipFill>
        <p:spPr>
          <a:xfrm>
            <a:off x="2484360" y="2309760"/>
            <a:ext cx="1351080" cy="392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5"/>
          <a:stretch/>
        </p:blipFill>
        <p:spPr>
          <a:xfrm>
            <a:off x="816120" y="2806560"/>
            <a:ext cx="1350720" cy="392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6"/>
          <a:stretch/>
        </p:blipFill>
        <p:spPr>
          <a:xfrm>
            <a:off x="7823160" y="5229360"/>
            <a:ext cx="57780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328680" y="966960"/>
            <a:ext cx="8486640" cy="55339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2"/>
          <a:stretch/>
        </p:blipFill>
        <p:spPr>
          <a:xfrm>
            <a:off x="7926480" y="1019160"/>
            <a:ext cx="577800" cy="392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3"/>
          <a:stretch/>
        </p:blipFill>
        <p:spPr>
          <a:xfrm>
            <a:off x="7926480" y="1998720"/>
            <a:ext cx="577800" cy="392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4"/>
          <a:stretch/>
        </p:blipFill>
        <p:spPr>
          <a:xfrm>
            <a:off x="5545080" y="2543040"/>
            <a:ext cx="912960" cy="393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5"/>
          <a:stretch/>
        </p:blipFill>
        <p:spPr>
          <a:xfrm>
            <a:off x="7864560" y="4602240"/>
            <a:ext cx="577800" cy="392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6"/>
          <a:stretch/>
        </p:blipFill>
        <p:spPr>
          <a:xfrm>
            <a:off x="7864560" y="5951520"/>
            <a:ext cx="5778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"/>
          <p:cNvPicPr/>
          <p:nvPr/>
        </p:nvPicPr>
        <p:blipFill>
          <a:blip r:embed="rId1"/>
          <a:stretch/>
        </p:blipFill>
        <p:spPr>
          <a:xfrm>
            <a:off x="247680" y="838080"/>
            <a:ext cx="8648640" cy="5877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2"/>
          <a:stretch/>
        </p:blipFill>
        <p:spPr>
          <a:xfrm>
            <a:off x="4127400" y="838080"/>
            <a:ext cx="981000" cy="392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3"/>
          <a:stretch/>
        </p:blipFill>
        <p:spPr>
          <a:xfrm>
            <a:off x="7331040" y="838080"/>
            <a:ext cx="1177920" cy="392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4"/>
          <a:stretch/>
        </p:blipFill>
        <p:spPr>
          <a:xfrm>
            <a:off x="2157480" y="1300320"/>
            <a:ext cx="603360" cy="392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5"/>
          <a:stretch/>
        </p:blipFill>
        <p:spPr>
          <a:xfrm>
            <a:off x="5292720" y="1300320"/>
            <a:ext cx="603360" cy="392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6"/>
          <a:stretch/>
        </p:blipFill>
        <p:spPr>
          <a:xfrm>
            <a:off x="7121520" y="1359000"/>
            <a:ext cx="603360" cy="392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7"/>
          <a:stretch/>
        </p:blipFill>
        <p:spPr>
          <a:xfrm>
            <a:off x="1146240" y="1803240"/>
            <a:ext cx="938160" cy="393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8"/>
          <a:stretch/>
        </p:blipFill>
        <p:spPr>
          <a:xfrm>
            <a:off x="1146240" y="3232080"/>
            <a:ext cx="9381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338040" y="1095480"/>
            <a:ext cx="8467920" cy="4667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2"/>
          <a:stretch/>
        </p:blipFill>
        <p:spPr>
          <a:xfrm>
            <a:off x="7808760" y="1158840"/>
            <a:ext cx="603360" cy="393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3"/>
          <a:stretch/>
        </p:blipFill>
        <p:spPr>
          <a:xfrm>
            <a:off x="4645080" y="3022560"/>
            <a:ext cx="601560" cy="392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4"/>
          <a:stretch/>
        </p:blipFill>
        <p:spPr>
          <a:xfrm>
            <a:off x="4505400" y="3743280"/>
            <a:ext cx="601560" cy="392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5"/>
          <a:stretch/>
        </p:blipFill>
        <p:spPr>
          <a:xfrm>
            <a:off x="4106880" y="4402080"/>
            <a:ext cx="603360" cy="392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6"/>
          <a:stretch/>
        </p:blipFill>
        <p:spPr>
          <a:xfrm>
            <a:off x="4505400" y="5092560"/>
            <a:ext cx="60156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" descr=""/>
          <p:cNvPicPr/>
          <p:nvPr/>
        </p:nvPicPr>
        <p:blipFill>
          <a:blip r:embed="rId1"/>
          <a:stretch/>
        </p:blipFill>
        <p:spPr>
          <a:xfrm>
            <a:off x="571680" y="795240"/>
            <a:ext cx="8143560" cy="5977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2"/>
          <a:stretch/>
        </p:blipFill>
        <p:spPr>
          <a:xfrm>
            <a:off x="880920" y="3105000"/>
            <a:ext cx="7358040" cy="392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3"/>
          <a:stretch/>
        </p:blipFill>
        <p:spPr>
          <a:xfrm>
            <a:off x="865080" y="3591000"/>
            <a:ext cx="7356600" cy="3920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4"/>
          <a:stretch/>
        </p:blipFill>
        <p:spPr>
          <a:xfrm>
            <a:off x="776160" y="4076640"/>
            <a:ext cx="7358040" cy="8985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5"/>
          <a:stretch/>
        </p:blipFill>
        <p:spPr>
          <a:xfrm>
            <a:off x="776160" y="5008680"/>
            <a:ext cx="7358040" cy="392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6"/>
          <a:stretch/>
        </p:blipFill>
        <p:spPr>
          <a:xfrm>
            <a:off x="831960" y="5423040"/>
            <a:ext cx="7356240" cy="392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7"/>
          <a:stretch/>
        </p:blipFill>
        <p:spPr>
          <a:xfrm>
            <a:off x="887400" y="5908680"/>
            <a:ext cx="7356600" cy="392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8"/>
          <a:stretch/>
        </p:blipFill>
        <p:spPr>
          <a:xfrm>
            <a:off x="942840" y="6323040"/>
            <a:ext cx="73566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328680" y="1143000"/>
            <a:ext cx="8486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614520" y="1471680"/>
            <a:ext cx="7914960" cy="391464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1" descr=""/>
          <p:cNvPicPr/>
          <p:nvPr/>
        </p:nvPicPr>
        <p:blipFill>
          <a:blip r:embed="rId2"/>
          <a:stretch/>
        </p:blipFill>
        <p:spPr>
          <a:xfrm>
            <a:off x="5703840" y="1471680"/>
            <a:ext cx="2772000" cy="2562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3"/>
          <a:stretch/>
        </p:blipFill>
        <p:spPr>
          <a:xfrm>
            <a:off x="289080" y="1563840"/>
            <a:ext cx="5225760" cy="392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4"/>
          <a:stretch/>
        </p:blipFill>
        <p:spPr>
          <a:xfrm>
            <a:off x="271440" y="2009880"/>
            <a:ext cx="5227560" cy="3934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"/>
          <p:cNvPicPr/>
          <p:nvPr/>
        </p:nvPicPr>
        <p:blipFill>
          <a:blip r:embed="rId5"/>
          <a:stretch/>
        </p:blipFill>
        <p:spPr>
          <a:xfrm>
            <a:off x="255600" y="2495520"/>
            <a:ext cx="5226120" cy="3938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6"/>
          <a:stretch/>
        </p:blipFill>
        <p:spPr>
          <a:xfrm>
            <a:off x="237960" y="2981160"/>
            <a:ext cx="5227920" cy="393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7"/>
          <a:stretch/>
        </p:blipFill>
        <p:spPr>
          <a:xfrm>
            <a:off x="293760" y="3467160"/>
            <a:ext cx="5227560" cy="3934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8"/>
          <a:stretch/>
        </p:blipFill>
        <p:spPr>
          <a:xfrm>
            <a:off x="277920" y="3952800"/>
            <a:ext cx="5226120" cy="3938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"/>
          <p:cNvPicPr/>
          <p:nvPr/>
        </p:nvPicPr>
        <p:blipFill>
          <a:blip r:embed="rId9"/>
          <a:stretch/>
        </p:blipFill>
        <p:spPr>
          <a:xfrm>
            <a:off x="404640" y="4400640"/>
            <a:ext cx="8285400" cy="392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5" descr=""/>
          <p:cNvPicPr/>
          <p:nvPr/>
        </p:nvPicPr>
        <p:blipFill>
          <a:blip r:embed="rId10"/>
          <a:stretch/>
        </p:blipFill>
        <p:spPr>
          <a:xfrm>
            <a:off x="460440" y="4886280"/>
            <a:ext cx="82850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1:56:44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